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192C-7492-4EEA-87D1-4BBB06D5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9099-683B-4C29-B16E-B8E15FEF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B758-E22F-4316-8605-83AB665A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1AAD-A6B9-4E53-8C22-747AB573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E5B6-6454-4380-81D7-03713D7F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B83C-DD33-41E0-BD1B-89B8F22C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BDCD-07E4-4406-B98B-5464199C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AB35-30B0-42E2-A4E2-27B2BF72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34B4-7DBF-49F0-9366-A9AE9577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A882-A13E-41BD-9577-03D054CB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DE9F-37BE-4A4B-8EF7-C35CE6F6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26DF-2BAE-4351-934D-7ADC9A76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11D8-30C7-4626-86E5-90CDDB18461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Journey’s End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.C. Sherri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7553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95959"/>
                </a:solidFill>
                <a:latin typeface="Calibri"/>
              </a:rPr>
              <a:t>“</a:t>
            </a:r>
            <a:r>
              <a:rPr b="0" lang="en-GB" sz="3200" spc="-1" strike="noStrike">
                <a:solidFill>
                  <a:srgbClr val="595959"/>
                </a:solidFill>
                <a:latin typeface="Calibri"/>
              </a:rPr>
              <a:t>Show how the writer creates the theme of conflict within the play </a:t>
            </a:r>
            <a:r>
              <a:rPr b="0" i="1" lang="en-GB" sz="3200" spc="-1" strike="noStrike">
                <a:solidFill>
                  <a:srgbClr val="595959"/>
                </a:solidFill>
                <a:latin typeface="Calibri"/>
              </a:rPr>
              <a:t>Journey’s End</a:t>
            </a:r>
            <a:r>
              <a:rPr b="0" lang="en-GB" sz="3200" spc="-1" strike="noStrike">
                <a:solidFill>
                  <a:srgbClr val="595959"/>
                </a:solidFill>
                <a:latin typeface="Calibri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"/>
          <p:cNvSpPr/>
          <p:nvPr/>
        </p:nvSpPr>
        <p:spPr>
          <a:xfrm>
            <a:off x="324000" y="0"/>
            <a:ext cx="849600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This paragraph – like every one in the body of an essay -  should consist of PEA :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oint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vidence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nalys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&gt;&gt; What is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oi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 you’re trying to make (e.g. Stanhope’s inner-conflict effectively adds more layers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his character; allowing us to see his sensitive si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&gt;&gt; Now give som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evide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 (a quote) to support this id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&gt;&gt; Finally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Analy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 the quote, linking it into your point and saying what i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sugg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 about the character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confli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-9360" y="1853640"/>
            <a:ext cx="9153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What is Stanhope’s inner conflict in this part of the pl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Can he trust Raleigh? What is it he does not want him to write home abou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How does he feel after hearing Osborne read the letter out alou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Find an example and a quote to support your example–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remember to include        the page numb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Stage directions here may help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How do stage directions help us to understand Stanhope’s inner-confli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Stage directions are the writing, written in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italic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 which are basically directions the director would give to help it be acted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Find a quote to show this –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remember to include the page numb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Calibri"/>
              </a:rPr>
              <a:t>Finish off with a couple of sentences about how the theme of inner-conflict is created and shown through the character of Stanh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395280" y="33192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If you are struggling to find the stage directions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Look at the final line of the stage directions of this scene: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“The sun is shining quite brightly in the trench outside”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(p.4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Why do you think the writer has included this? What is he trying to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sugges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 by including it (in relation to Stanhope’s inner-conflic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Use this quote and comment o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"/>
          <p:cNvSpPr/>
          <p:nvPr/>
        </p:nvSpPr>
        <p:spPr>
          <a:xfrm>
            <a:off x="324000" y="0"/>
            <a:ext cx="849600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This paragraph – like every one in the body of an essay -  should consist of PEA :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oint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vidence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nalys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&gt;&gt; What is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Poi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 you’re trying to make (e.g. Stanhope’s inner-conflict effectively adds more layers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his character; allowing us to see his sensitive si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&gt;&gt; Now give som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evide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 (a quote) to support this id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&gt;&gt; Finally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Analy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 the quote, linking it into your point and saying what i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sugg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 about the character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alibri"/>
              </a:rPr>
              <a:t>confli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79280" y="191628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nflict between Stanhope and Hibbert: pp.54-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is the argument between the two men about? What does Hibbert want to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w do Stanhope and Hibbert’s opinions/attitudes diff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ind a quote (an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ge numb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) to support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50920" y="378936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is the audience’s impression of Stanhope at the beginning of this scene, especially when he threatens to kill Hibbert for deser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w does this change? Find an example of some stage directions (the words in italic writing) which back this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324000" y="5300640"/>
            <a:ext cx="83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y the end of this scene with Hibbert, how has the audience’s feeling’s towards Stanhope change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o you think he’s a good man? A bad man? Heartless? Kind? This is up to you to decide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ive an example from the text to back this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20:35:04Z</dcterms:created>
  <dc:creator>Gibb</dc:creator>
  <dc:description/>
  <dc:language>en-US</dc:language>
  <cp:lastModifiedBy>Gibb</cp:lastModifiedBy>
  <dcterms:modified xsi:type="dcterms:W3CDTF">2011-12-08T22:46:14Z</dcterms:modified>
  <cp:revision>16</cp:revision>
  <dc:subject/>
  <dc:title>Journey’s End R.C. Sherriff</dc:title>
</cp:coreProperties>
</file>